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7058D-E59A-4AA7-BFD7-F0BD3F12CE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4A128-45CE-476B-8CF3-36BECEBCF6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96727-1DC1-4884-A08D-598B34BF9E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C020-799A-4191-8012-D07CA1EFB9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DADF-EE36-4F9C-8FE0-542504B67A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3907-FCA4-4626-BC25-DC24B174E7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F003E-A97C-4657-9A13-C03871DAA7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0E87-C7D5-4087-AA6F-479803504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C146-699E-4A2F-B5B1-9A1B37CF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7EBA-75A5-44D2-AB5D-7458996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91AE-4F09-4EA5-8E48-808396092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97DF-7F5E-409A-BB7F-A147CCB0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AF56-1BE9-4AB1-92CD-9FF3B812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100D-C49D-44E7-A0B5-EB19D933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6F9D-73E0-4F9B-A767-237E80E0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A0F7-99A0-452A-8331-21AF7CCA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21B1-A80E-475F-9487-DBB4457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86CF-F5DC-4741-A434-A28346F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968E-B4B6-43D3-87B0-61B4843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68D387-A6B7-49A8-9307-7FFF35B059B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ORMACIÓN DE LA SEMILLA </a:t>
            </a:r>
            <a:br>
              <a:rPr sz="2800"/>
            </a:b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Y DEL FR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a semilla y del fr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260360" y="1619280"/>
            <a:ext cx="2260800" cy="240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5838840" y="1371600"/>
            <a:ext cx="2260440" cy="240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3959280" y="3780000"/>
            <a:ext cx="2260440" cy="2408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90000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el pistilo al fruto y la sem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95280" y="378000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flor se marchita, se caen la corola y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ndroceo. Se empieza a desarrollar el ci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732720" y="3141720"/>
            <a:ext cx="230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ared del ovari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engrosa; en su interior, se empiez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formar una semil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140360" y="558000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forma el fruto que contiene la semilla en su i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3780000" y="1979640"/>
            <a:ext cx="1979280" cy="539640"/>
          </a:xfrm>
          <a:prstGeom prst="rightArrow">
            <a:avLst>
              <a:gd name="adj1" fmla="val 50000"/>
              <a:gd name="adj2" fmla="val 91694"/>
            </a:avLst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14"/>
          <p:cNvSpPr/>
          <p:nvPr/>
        </p:nvSpPr>
        <p:spPr>
          <a:xfrm flipH="1">
            <a:off x="6478560" y="4392720"/>
            <a:ext cx="900000" cy="900000"/>
          </a:xfrm>
          <a:custGeom>
            <a:avLst/>
            <a:gdLst>
              <a:gd name="textAreaLeft" fmla="*/ 360 w 900000"/>
              <a:gd name="textAreaRight" fmla="*/ 90072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reeform 15"/>
          <p:cNvSpPr/>
          <p:nvPr/>
        </p:nvSpPr>
        <p:spPr>
          <a:xfrm flipH="1" rot="5460000">
            <a:off x="2701080" y="4323960"/>
            <a:ext cx="900000" cy="900360"/>
          </a:xfrm>
          <a:custGeom>
            <a:avLst/>
            <a:gdLst>
              <a:gd name="textAreaLeft" fmla="*/ 360 w 900000"/>
              <a:gd name="textAreaRight" fmla="*/ 900720 w 9000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6 CuadroTexto"/>
          <p:cNvSpPr/>
          <p:nvPr/>
        </p:nvSpPr>
        <p:spPr>
          <a:xfrm>
            <a:off x="468360" y="3357720"/>
            <a:ext cx="287280" cy="36828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7 CuadroTexto"/>
          <p:cNvSpPr/>
          <p:nvPr/>
        </p:nvSpPr>
        <p:spPr>
          <a:xfrm>
            <a:off x="6443640" y="3213000"/>
            <a:ext cx="289080" cy="36828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18 CuadroTexto"/>
          <p:cNvSpPr/>
          <p:nvPr/>
        </p:nvSpPr>
        <p:spPr>
          <a:xfrm>
            <a:off x="3780000" y="5516640"/>
            <a:ext cx="287280" cy="36828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ormación de la semilla y del fr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artes de la sem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2627280" y="2052720"/>
            <a:ext cx="35211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468360" y="2060640"/>
            <a:ext cx="19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bumen: es una sustancia nutritiva que aliment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embr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2308320" y="2824200"/>
            <a:ext cx="179208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651640" y="2421000"/>
            <a:ext cx="19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tiledones: pequeñas hojas que almacenan nutri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4535640" y="2637000"/>
            <a:ext cx="111600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651640" y="342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 flipH="1">
            <a:off x="4416120" y="3638520"/>
            <a:ext cx="1289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651640" y="3860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ici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4397040" y="3992400"/>
            <a:ext cx="12812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7667640" y="2276640"/>
            <a:ext cx="1440" cy="19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164360" y="22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7667640" y="3492360"/>
            <a:ext cx="1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7815240" y="331164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br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539640" y="4268880"/>
            <a:ext cx="19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biertas protectoras: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dean y protegen la semil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V="1">
            <a:off x="2340000" y="3963960"/>
            <a:ext cx="172080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 flipV="1">
            <a:off x="2340000" y="4156200"/>
            <a:ext cx="172080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716436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4:33Z</dcterms:modified>
  <cp:revision>46</cp:revision>
  <dc:subject/>
  <dc:title>Diapositiva 1</dc:title>
</cp:coreProperties>
</file>